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2A6-B600-4F09-90DC-C19DDEA0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AC0-55A2-4CE0-A816-679D553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241-E083-40E6-AF2A-E0C99B1C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147-E901-4151-87E7-A889EF8F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A5E-61F5-4AD6-AFA1-10021E5D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5E3-9A90-4876-97DF-165D8EE8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8A4-A3C0-41A8-9F29-865A836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53A-343C-4662-B10F-4DAB115B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F0E-D18F-41E9-97D3-5F068EC3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117-78E7-4AB5-B14F-60284822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D8A-DAAB-45AA-B16E-04C1B02D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EBC-CC17-45E8-AE0D-9CA1090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B9E-8DFB-4C42-B5AB-B5A5CCF6F4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.xml"/><Relationship Id="rId6" Type="http://schemas.openxmlformats.org/officeDocument/2006/relationships/slide" Target="slide14.xml"/><Relationship Id="rId7" Type="http://schemas.openxmlformats.org/officeDocument/2006/relationships/slide" Target="slide24.xml"/><Relationship Id="rId8" Type="http://schemas.openxmlformats.org/officeDocument/2006/relationships/slide" Target="slide34.xml"/><Relationship Id="rId9" Type="http://schemas.openxmlformats.org/officeDocument/2006/relationships/slide" Target="slide6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36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30.xml"/><Relationship Id="rId20" Type="http://schemas.openxmlformats.org/officeDocument/2006/relationships/slide" Target="slide40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685800"/>
          <a:ext cx="8153280" cy="5440320"/>
        </p:xfrm>
        <a:graphic>
          <a:graphicData uri="http://schemas.openxmlformats.org/drawingml/2006/table">
            <a:tbl>
              <a:tblPr/>
              <a:tblGrid>
                <a:gridCol w="2039760"/>
                <a:gridCol w="2038680"/>
                <a:gridCol w="2036520"/>
                <a:gridCol w="203832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ysse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erary Term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&amp; J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compares heroic or epic events to simple everyday eve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Homeric sim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im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comparison of two unlike things using “like” or “as”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metapho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comparison of two unlike things without using “like” or “as”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iron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when something happens that is the opposite of what you’d exp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n allus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reference to a statement, person, place, or event from literatur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o is Cyclop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ersonific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erary Term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giving human characteristics to a nonhuman thin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o is Queen Mab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Queen of Fairi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person has knowledge of the medicinal powers of plan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Friar Laurenc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does Mercutio mean when he says, “Why the devil came you between us? I was hurt under your arm?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at Romeo is responsible for Mercutio’s death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/she was insulted by Mercutio’s crude jok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Nurs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oseidon’s one-eyed monster s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o says at the end of the play that, “All are punished?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 &amp; J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rince Escalu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nonfic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something that is real or has happene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what Friar Laurence means when he says, “Wisely and slow; they stumble that run fast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people who fall in love fast fall out of love quic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epulch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private burial vaul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betrotha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engagement of two peop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type of literature is “The Odyssey?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“distilling liquor” Friar Laurence gives Juliet is wha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efinitions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potion that makes her appear de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2096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pic poe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other name does Odysseus go b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Nobod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ype of hero is Odysseu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dysse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tragic hero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9:13:10Z</dcterms:created>
  <dc:creator>ORA</dc:creator>
  <dc:description/>
  <dc:language>en-US</dc:language>
  <cp:lastModifiedBy>ORA</cp:lastModifiedBy>
  <dcterms:modified xsi:type="dcterms:W3CDTF">2013-06-10T14:50:40Z</dcterms:modified>
  <cp:revision>35</cp:revision>
  <dc:subject/>
  <dc:title>Slide 1</dc:title>
</cp:coreProperties>
</file>